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54D1-35CA-4272-9659-2F494BF3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AADF-F320-4064-A85E-063A1E30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1AD3-B9F4-47A6-9890-E2AF0A05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C8C1-B448-481E-99B2-7F6525F4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9DDE-CF65-44BF-8BD1-0720025F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C573-45A6-4E94-AE99-3A1D8608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0EF1-8AB2-4DB0-B77D-91715729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E007-7DDB-4E03-8D59-3AE87E56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C469-6D9A-44A5-8D70-8F60B9A7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5838-A6AF-4FE5-A3AC-AABEB7F0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3529-338B-4F45-A5F2-48AD52C2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743A-F727-4F0D-A476-917FCA44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C380-CEDA-4503-85BC-45537B0C6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5400" spc="-1" strike="noStrike">
                <a:solidFill>
                  <a:srgbClr val="000000"/>
                </a:solidFill>
                <a:latin typeface="Lucida Calligraphy"/>
              </a:rPr>
              <a:t>Le microscop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81280" y="3429000"/>
            <a:ext cx="1801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Lucida Calligraphy"/>
              </a:rPr>
              <a:t>Le microscop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Lucida Calligraphy"/>
              </a:rPr>
              <a:t>Antony Van Leeuwenkoek a été le 1</a:t>
            </a:r>
            <a:r>
              <a:rPr b="1" lang="fr-CA" sz="3200" spc="-1" strike="noStrike" baseline="30000">
                <a:solidFill>
                  <a:srgbClr val="000000"/>
                </a:solidFill>
                <a:latin typeface="Lucida Calligraphy"/>
              </a:rPr>
              <a:t>er</a:t>
            </a:r>
            <a:r>
              <a:rPr b="1" lang="fr-CA" sz="3200" spc="-1" strike="noStrike">
                <a:solidFill>
                  <a:srgbClr val="000000"/>
                </a:solidFill>
                <a:latin typeface="Lucida Calligraphy"/>
              </a:rPr>
              <a:t> à observer la vie microscopique. Il a passé environ 50 ans à étudier le microsc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000000"/>
                </a:solidFill>
                <a:latin typeface="Lucida Calligraphy"/>
              </a:rPr>
              <a:t>*Qu’est-ce qu’un microsco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C’est un instrument pour regarder quelque chose de très pet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96080" y="3124080"/>
            <a:ext cx="113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Lucida Calligraphy"/>
              </a:rPr>
              <a:t>Les micro-organismes et les micro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Regarde les illustrations des P.36 et P.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Essais de reproduire ces illustrations (7) dans ton cahier. Identifie chaque micro-organis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81280" y="4114800"/>
            <a:ext cx="1565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6:26:07Z</dcterms:created>
  <dc:creator>nbdoe</dc:creator>
  <dc:description/>
  <dc:language>en-US</dc:language>
  <cp:lastModifiedBy>nbdoe</cp:lastModifiedBy>
  <dcterms:modified xsi:type="dcterms:W3CDTF">2008-10-28T16:40:01Z</dcterms:modified>
  <cp:revision>2</cp:revision>
  <dc:subject/>
  <dc:title>Le microscope</dc:title>
</cp:coreProperties>
</file>